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01A-78DE-4FC6-9D1D-365B7349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BF0-400D-4750-BC95-93323B6A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28B-DF1E-4BD5-8E60-A125F59B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C68-5FBD-4315-B62B-101D3547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BAE-264F-42E2-A45F-78A2E1DD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62A-CA54-477F-B1E8-C107BE5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286-6E10-4B18-8D40-11784C7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90D-9A02-4438-A2C5-B0896E9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978-BF8E-4D0C-910D-F09A865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F47-168E-4782-B431-76B8E3F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C25-3803-4B15-8E6B-8C8D46F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BEF-0F70-44D3-9109-F701BE8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BD1F-501E-4FD4-A93C-C5EBFBA3C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bechop.com/watch/292321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bechop.com/watch/292301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4920"/>
            <a:ext cx="8447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me-Sex Marri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84440" y="1117440"/>
            <a:ext cx="52164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hould gay and lesbian couples be given the same rights as everyone els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Gay and Famo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960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Miguel Bose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Spanish singer and ac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Truman Capote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writer and journa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Ellen DeGeneres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actress and com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John Edgar Hoover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American head of the FB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Elton John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British pop singer and compos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eonardo da Vinci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- Italian painter, sculptor and archit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577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Ellen DeGener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ubechop.com/watch/29232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892840" y="2336760"/>
            <a:ext cx="3997440" cy="515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5397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6789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position 8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88320" cy="32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y 26, 2009 - Prop. 8 Uphe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ugust 2010 - Proposition 8 repeal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2011 - Prosition 8 ban lif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ebruary 7th, 2012 - Proposition 8 found to be unconstitut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2360" y="309600"/>
            <a:ext cx="96696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roposition 8, February 7th, 201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tubechop.com/watch/2923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60560" y="396360"/>
            <a:ext cx="79120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hould gay and lesbian couples be allowed the same rights as everyone els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41680" y="1828800"/>
            <a:ext cx="50544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81400" y="1015920"/>
            <a:ext cx="531972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6280" y="6502320"/>
            <a:ext cx="52200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anks for liste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930320"/>
            <a:ext cx="584172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5689080"/>
            <a:ext cx="9769680" cy="15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o any of these photos upset you?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 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812880"/>
            <a:ext cx="4390920" cy="44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978440" y="1625760"/>
            <a:ext cx="4807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6 Out of 50 Stat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6 of the 50 states in the United States allow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onneticut, Massachusetts, Iowa, Maine, New Hampshire and Vermo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22360" y="3048120"/>
            <a:ext cx="7896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406440"/>
            <a:ext cx="967428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Political Affili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8840" y="5079600"/>
            <a:ext cx="9482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Republicans are against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ndependents are slightly more for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-22608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mocrats are mostly for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46240" y="1219320"/>
            <a:ext cx="40878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07440"/>
            <a:ext cx="9667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ge of Accept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2437920"/>
            <a:ext cx="977436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older generation is less accepting or is against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younger part of the population and young adults are for gay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98440"/>
            <a:ext cx="92631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Benefits Not Allow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" y="1930320"/>
            <a:ext cx="9572760" cy="34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ocial Security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Gift Tax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rriage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3391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Marriage Exemption to Federal E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73520" y="1219320"/>
            <a:ext cx="5010120" cy="360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19680" y="6197760"/>
            <a:ext cx="51148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 people against gay marriage believe these rights shouldn't be allowed to gay cou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320" y="401400"/>
            <a:ext cx="9582120" cy="75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Holly's 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314000"/>
            <a:ext cx="97790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Holly and Eile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1,049 Benefi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nied Righ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464004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2360" y="304560"/>
            <a:ext cx="967896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Against Gay Marri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#1 Reason - Religion bans same-sex marri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16280" y="2946240"/>
            <a:ext cx="632592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rofuser</cp:lastModifiedBy>
  <dcterms:modified xsi:type="dcterms:W3CDTF">2012-03-07T17:48:14Z</dcterms:modified>
  <cp:revision>1</cp:revision>
  <dc:subject/>
  <dc:title>PowerPoint Presentation</dc:title>
</cp:coreProperties>
</file>